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B6E7-4B97-479F-8310-CE65D95077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8ABE-0057-46AF-BC9F-35B82D4E1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July Training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achers will be on the test server @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ttp://pstest.cmcss.net/teach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y will see data that is not their REAL data. - they will use dummy account NOT their real log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LIVE address i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s://Powerschool.cmcss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 NOT GIVE THE LIVE ADDRESS UNTIL AMIE GIVES THE OK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B4B31-96E7-4B6B-9308-BC4E319574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For Ami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re there contact people for certain problems?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an we give those names and email/numbers to the teachers at this tim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9C70B-ECBD-4759-A4C4-676E3BB34B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aily bulletin contains newsletter style announcements and inform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office staff or administrators will prepare the school wide bulleti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****When typing up an email for submission to the bulletin be sure to add the date range you want it to displ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33D0-D2E0-4ECB-B94B-ECF22D5E89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F5093-34DE-4635-AAF9-3F9EF2B357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***There is really NO NEED TO MAKE CHANGES IN THE PERSONALIZE S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t will function as i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E50B5-49DA-4B3A-830C-B272D36220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DDB8-0978-49D5-B0A0-94DDFAB5A8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4F5FE-C620-4B82-B8F5-3A5A79771A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After you click Gradebook in the Menu, the Quick Entry Tips link is located  just above the Launch butt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Show this feature.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Do not use it for training.  Just let them know it is there if they need 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y never have to memorize the shortcuts because they can see them everytime they launch the gradebook if they use this featur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F082-7A51-4E7C-B032-FB7D2E8D75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igh School and Middle School will see separate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ementary will see separate classes for each subjec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91AA-7CFE-4A9D-9380-735FB4774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*By default-PowerTeacher Gradebook opens to the Scoresheet T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Very Briefly identify each section. Teachers will work through most during the cour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purpose of this slide is to give teachers a point of reference and help then navigate through the gradebook as the course progre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44444"/>
                </a:solidFill>
                <a:latin typeface="Arial"/>
              </a:rPr>
              <a:t>*The default settings for the gradebook establish the final grade setup as being total points and establishes four types of assignment categories:homework, quiz, test, and proje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22BDD-DBF3-4842-881E-59D58B0743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F1753-96CA-4B0E-B817-7B9928700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Amie Wilson will provide dummy account login information for teachers being train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3B38-3E09-473A-B997-9A024AC583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oint of Contacts will be trained Aug 5. Amie will get BJ and principals to identify a 45 minute session with faculties to set up gradebook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eople not trained will need basic training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 Part Trai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39B42-FCA1-4CD2-92A2-B4FBBA7169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efault categories that are preset are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Qu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achers may want to add classwork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  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D9DC-CBCC-4F90-98B8-8508297CE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efault categories that are preset are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Ho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Qui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eachers may want to add classwork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NOTE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se categories will be available to all classes or sect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f a teacher has multiple courses that require different categories, all of them must be created here.  Then only choose the ones needed in each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Unused categories have no impact on student scores or gr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  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977B-730B-4544-B583-8240C9F49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ECK WITH AMIE FOR POLICY INF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Dot will give us the formula for highschool and some middle schools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fo and examples are available on p 16 of the PowerTeacher manua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t is important to communicate to parents and students how grades are calcul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Because, we are now  webbased and parents have 24/7 access to their student's grades, many principal's are setting school weighting policies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4D5E1-69AA-4D82-9781-C7B827F29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e are still waiting to see if district policy will be set for this feature.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78FD-C6C5-4010-912F-C741A5FC9F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3249-44B7-4E43-B4E6-801629EC1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41029-0785-4849-91B0-35DC801788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6B7C4-9542-4342-831C-C74BAABB3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1D5D-25D2-481F-A7D9-C44C241704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0588-0BC0-4A38-992D-300476A3F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is is a web based program.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NO Software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NO Isolated Computer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lease note that Internet Explorer works inconsistently with this progr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One place to find your MUNIS ID is on your pay stub, top right. It is your Emp. N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he LIVE address is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ttps://Powerschool.cmcss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DE795-2386-4644-821B-0E43FC18BF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73D0C-1A49-4969-8FEE-27AF771EE8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0713-F6EC-4B78-AE14-4D78F06AEC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Say to teachers....</a:t>
            </a: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we understand that one or two items will not be graded by Monday at Midnight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Parents will be told to check on Tuesday mornings for previous week's grades in order to provide guidance and intervention for their childr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965CA-39C6-443F-A347-BD52974F72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When scores are put in for assignments - publish THEN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Assignments for the previous  week MUST be in by Monday at midnight - parents will be advised to look for them on Tuesday morn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BD318-0804-4ADF-AEF4-E1B3AF40E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3004-0426-4153-B1E6-4CCD80A4F9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88978-187B-4AD2-B195-27B2A3451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7187-E488-469C-AFBA-CEC5AFC02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1911-FBD5-4312-BFC1-5201CF4F6E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AAC9-83C1-4E2C-A009-59BB9C1119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0F35-61CB-4E25-A2BE-E7A2A8F61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2AF8-EB5F-43A2-AF77-F6763FF77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3FC2-16B5-4E8B-9C6A-97B66B1309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649AC-861C-41DE-A090-12266D6242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AC6A-6514-461C-BCD4-B4D2C9EF19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EC036-0390-4740-95A1-862B5F7C0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F75D-90D9-4D32-9CEB-2079CFDEB2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4DBA6-EE03-4564-9902-F4FC70648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0030-F252-43FD-BFB9-D164253552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 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 default is PRES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You will only click on students absent or tardy to make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Don't forget to click subm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Elementary Takes Attendance once a d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Middle - Most Take Attendance  once a day, if a teacher is at a middle school that takes period attendanc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**Amie will try to fix this issu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High - Each Perio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DISTRICT POLICY- Attendance in first ten minutes of clas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Any time a child comes in after school starts with a tardy pass...the office will handle putting in the tard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B53F7-54C9-47B8-8216-AF612C410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Instructor Notes-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Point out that not all elementary schools still take lunch count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is is only to be used by teachers from the schools who do take lunch cou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For schools who use the lunch count, an office staff member will print and deliver the information to the cafeteria staff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D7C03-9B5E-4ADB-B83B-A6E04B84D7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sert description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nsert a slide telling instructors we will NOT start out using the discipline feature shown as "Submit Log Entry"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F46E-2CB6-457B-9F25-84F92A7759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Look at different screen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ink about which would be most useful to you most of the time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Make sure you can navigate to others you might ne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Student Log Entry - ****Do NOT use this at this time. It is for logging discipline information and may be used at a later da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**check on TEacher comments...can this be done from gradeboo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95075-72F1-4C02-90A5-1867517CC0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available reports may change or evolve as the year goes on.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444444"/>
                </a:solidFill>
                <a:latin typeface="Arial"/>
              </a:rPr>
              <a:t>These are only reports for their own class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hecking with Do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***Come back to this pag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5694-DF61-4AA4-BDC6-04BC8A60C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61B5-18F6-4B21-BD4D-4098B72E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4185-E073-41E6-9A46-1EFA0F4AF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1DD-52A5-460F-8AB0-9A836756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BCAD-1259-4C7B-84CA-C3A0B413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A5A-6D95-49B9-BCD7-E9CC46FD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43A-48A0-4AFD-8560-4D4B5235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1E82-2CA9-4B68-BB34-0CEF19E00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AD61-52D8-4CA6-AEC7-19FC633D0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801-A4A3-4C4C-9CDE-876372B4B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95D-6689-4CCF-AD25-CB33F81EE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9558-755F-4F9F-B0C3-CB0E3B82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985C7-4AFF-4BB9-8BFC-2438C19130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4680" y="738000"/>
            <a:ext cx="845316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Training</a:t>
            </a:r>
            <a:br>
              <a:rPr sz="4800"/>
            </a:b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For Classroom Teachers who Take Attendance and/or Give Grade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PowerTeacher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79000" y="2209680"/>
            <a:ext cx="9664920" cy="381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To access the PowerTeacher Online Help, click the Help icon, which looks like a question mark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8193240" y="914400"/>
            <a:ext cx="1049040" cy="10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aily Bulletin 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60280" y="820440"/>
            <a:ext cx="9158400" cy="68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not create entries for the daily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read the notices and send a message to the person in charge of maintaining the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ow to View the Daily Bulletin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n the PowerTeacher main menu,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Daily Bulletin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 The Daily Bulletin page displays today's announcements and links to previous bulletin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date links at the bottom of the page to view that day's bulleti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e-mail address at the bottom of the page to send a message to the person who issues the announcements. Depending on your default e-mail application, an e-mail form appea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mplete the e-mail mess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end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taff Directory and Meals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NOT use these function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ntinue to contact people from your building using the CMCSS email system.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ersonaliz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02680" y="1066320"/>
            <a:ext cx="9664920" cy="617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hange Password Feature -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O NOT CHANGE PASSWO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efault Student Screen Feature - A teacher can choose which student screen appears first when the BACKPACK icon is clicked. Other screens can then be selected from the Select Screens dropdown menu at the top righ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Display Section Number - Choose Yes/No to show or hide section numbers on the Teacher's Homepage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chool/Term Selector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9000" y="114300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DEFAULT school is the school to which a teacher is assigned. You will need not to change thi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e terms will change automatically as the year progresses. You should glance at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term selector 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each time changes are made to ensure the correct term is display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PowerTeacher GradeBook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eacher Trai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Quick Entry Ti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Select 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Quick Entry Tips </a:t>
            </a:r>
            <a:r>
              <a:rPr b="0" lang="en-US" sz="3700" spc="-1" strike="noStrike">
                <a:solidFill>
                  <a:srgbClr val="444444"/>
                </a:solidFill>
                <a:latin typeface="Arial"/>
              </a:rPr>
              <a:t>on the PowerTeacher gradebook just above the Launch Gradebook button for keyboard shortcuts. 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ing GradeBook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79000" y="14479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Cs must have Java 1.5 loa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LAUNCH GRADEBOOK butt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*You may get one or more dialog boxes… Click OK or Trust. (If you click the option to Always Trust it will stop some of the windows from appea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You should then see your Class Grade B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   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eft Marg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es Selection Ba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oup Li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p Menu Bar (Tabs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ade Set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a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ion Window - Shows the "Page" associated with each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Menu Bar-Very Top -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ol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indow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02680" y="14479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PowerTeacher Gradebook is configured for immediate use.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The next several slides cover what you will need to set up once…at the start of each year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*You will configure the gradebook following district and school policies with your Point of Contact during the first days in your schoo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est Server Login - For Training Only!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79000" y="152388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t is best to use Firefox or Safar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est Server Address:</a:t>
            </a: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ttp://pstest.cmcss.net/teachers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his is a dummy account login information to be provided on training day for use during training onl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the GradeBook                2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 will review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Categori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 Weigh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ting Up GradeBook Preferen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Viewing Gradescales - these are set up by the distric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diting Class Info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reat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ublishing 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utput Options- Scoresheets, Statistics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arents' and/or Students' View of PowerSchool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2680" y="12193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43040" indent="-74304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On the gradebook menu bar, choos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Tools &gt; Categories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the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Plus 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(+) button in the lower left corner of the window. Enter your inform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0">
              <a:lnSpc>
                <a:spcPct val="9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Click </a:t>
            </a: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Close</a:t>
            </a:r>
            <a:r>
              <a:rPr b="0" lang="en-US" sz="4000" spc="-1" strike="noStrike">
                <a:solidFill>
                  <a:srgbClr val="444444"/>
                </a:solidFill>
                <a:latin typeface="Arial"/>
              </a:rPr>
              <a:t>. (Categories will be saved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Categor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9120" y="1074240"/>
            <a:ext cx="9661680" cy="585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achers CAN set -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egory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brevi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ints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99960">
              <a:lnSpc>
                <a:spcPct val="95000"/>
              </a:lnSpc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ore Ty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clude in Final Grade***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***Important**** If this box is not checked, it will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  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not count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Descriptions- Category descriptions can be viewed by administrators and par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Final Grade Weighting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02680" y="1360080"/>
            <a:ext cx="9649080" cy="54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WILL BE DETERMINED BY DISTRICT OR SCHOOL POLI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must first determine how final term grades will be calculat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Grade Calculation Settings will be provided for you by your point of contact during gradebook setup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ption 1 - Total Points - total points accumulated divided by total points possi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ption 2 - Term Weights - multiply total points by the value of each ter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Option 3 - Category Weights - multiply total points by value of each categ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nal Grade Set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can be set by clicking on the Grade Setup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is setup determines how final grades are calculated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The final grade is calculated continuously so you always know a students current final grad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hoose the desired reporting term in the upp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the desired calculation method in the lower pa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****You can also decide here if any low scores are dropp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Up Student Groups                1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2680" y="14479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DEFAUL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group is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ENTIRE CLAS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 S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– is a Collection of Groups.  You must create a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ET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before you can mak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GROUPS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SET might be Reading or Math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 GROUP - a small collection of stud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-like Reading Group 1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 </a:t>
            </a: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Creating a Set and Gro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LUS button (+) in the lower left hand corn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t will automatically create Untitled Set 1 and Untitled Group 1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Set 1 and enter a name for the set, such as Reading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ouble Click on Untitled Group 1 and enter a name for the Group, such as Early Readers. Press the ENTER ke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If you need to add more Groups under a Set click the PLUS (+) and choose Add Group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eat steps 2-5 until all Sets and Groups are comple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Students to a Grou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10960" y="1015560"/>
            <a:ext cx="966168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lvl="1" marL="397440" indent="-29808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STUDENTS tab and Click on a student's nam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9808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rag the name of the student to the appropriate group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can add student to all of the group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You CANNOT add a student to more than one GROUP in the same SET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LETING STUDENTS FROM A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a student's name in the group list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minus (-) button at the bottom lef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OVING STUDENTS BETWEEN GROUPS WITHIN A SE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Click the arrow to the left of the group name to ope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lick the name of the student you want to move and drag it to the folder for one of the other groups in the se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tting PT GradeBook Preferences</a:t>
            </a:r>
            <a:br>
              <a:rPr sz="4300"/>
            </a:b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o set how grades are calculated and stored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0040" y="2168640"/>
            <a:ext cx="96616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the POWERTEACHER GRADEBOOK menu (MAC) or the TOOLS menu (PC) at the top and select PREFERENC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options to meet school or district policy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ounded - EX. 89.75 would be rounded to 90%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cimal Places - Select how many decimal plac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Viewing Gradescal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44444"/>
                </a:solidFill>
                <a:latin typeface="Arial"/>
              </a:rPr>
              <a:t>****The gradescale is determined by the district and will be loaded in the GradeBook for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o View the Gradescal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he Tools menu, and click Gradesc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he DEFAULT gradescale will be viewable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3040" y="609120"/>
            <a:ext cx="9661680" cy="192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ging into PowerTeacher- For Actual Use of Gradebook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49120" y="2057040"/>
            <a:ext cx="9661680" cy="48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44444"/>
                </a:solidFill>
                <a:latin typeface="Arial"/>
              </a:rPr>
              <a:t>User Name: Your MUNIS Numb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44444"/>
                </a:solidFill>
                <a:latin typeface="Arial"/>
              </a:rPr>
              <a:t>Password: FL****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(firstlastinital and last 4 of your SSN)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Never SHARE your User Name or PASSWORD with ANYONE. 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 u="sng">
                <a:solidFill>
                  <a:srgbClr val="444444"/>
                </a:solidFill>
                <a:uFillTx/>
                <a:latin typeface="Arial"/>
              </a:rPr>
              <a:t>DO NOT</a:t>
            </a:r>
            <a:r>
              <a:rPr b="1" lang="en-US" sz="3700" spc="-1" strike="noStrike">
                <a:solidFill>
                  <a:srgbClr val="444444"/>
                </a:solidFill>
                <a:latin typeface="Arial"/>
              </a:rPr>
              <a:t> change your password.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Editing and Viewing Class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Choose a class from the Classes Pane (Top Lef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lick the CLASS INFO T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3. You can add a description of the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ype in the description b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Add a web link if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***Remember that descriptions can be viewed by the administrators, students, and parents.  This can be very useful, but BE CAREFUL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63640" y="1723680"/>
            <a:ext cx="845352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de6600"/>
                </a:solidFill>
                <a:latin typeface="Arial"/>
              </a:rPr>
              <a:t>Adding Assignme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726920" y="3047760"/>
            <a:ext cx="660852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Most of the GradeBook items covered prior to this ar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one-time set-ups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The following slides cover the </a:t>
            </a:r>
            <a:r>
              <a:rPr b="1" lang="en-US" sz="3200" spc="-1" strike="noStrike">
                <a:solidFill>
                  <a:srgbClr val="3b62af"/>
                </a:solidFill>
                <a:latin typeface="Arial"/>
              </a:rPr>
              <a:t>daily</a:t>
            </a:r>
            <a:r>
              <a:rPr b="0" lang="en-US" sz="3200" spc="-1" strike="noStrike">
                <a:solidFill>
                  <a:srgbClr val="3b62af"/>
                </a:solidFill>
                <a:latin typeface="Arial"/>
              </a:rPr>
              <a:t> adding of assignments and grades, and mo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istrict Grade Publishing Policy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  All graded assignments MUST be published!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By Midnight every Monday, all assignments from the previous week MUST be published!</a:t>
            </a:r>
            <a:br>
              <a:rPr sz="2700"/>
            </a:b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est Practice: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  Timely Feedback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y current in grading, recording, and publishing assignments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*Parents will be told to check on Tuesday mornings for previous week's grades in order to provide guidance and intervention for their childr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2680" y="114300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dd Assignments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1. Select a class, then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Assignments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or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coresheet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2. Click the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lus (+) 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button. En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inform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3. Click 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4. Click the </a:t>
            </a: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Publish T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5. Click Drop Down to set date to be publish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-33228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44444"/>
                </a:solidFill>
                <a:latin typeface="Arial"/>
              </a:rPr>
              <a:t>Immediately is the defa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43160" indent="-33228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NEVER is not an op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ame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ange the abbreviation name if desire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the category to which the assignment belo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Score type and Points Possible are preset based on the category information you chos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eight- you can assign a weight to an assignment.  *Remember that you have already set weights for categori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ue Date - The default due date is today's d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 the box to "include in final grade.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t the assignment description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Deleting an Assign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02680" y="1219320"/>
            <a:ext cx="96649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Highlight the assignment by clicking on its heading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Click the Minus (-) button next to the assignment header are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You will get an "Are You Sure?" dialog box. Click delet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44444"/>
                </a:solidFill>
                <a:latin typeface="Arial"/>
              </a:rPr>
              <a:t>*A deleted assignment CANNOT be retrieved!!!!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What You Will See on the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When you have chosen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Class (Top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 Group (Middle Left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lter by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eporting Term (be carefu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ategory (All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s (Activ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You will see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ist of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ssignment Scor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  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Final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ing Grades to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10960" y="1131840"/>
            <a:ext cx="96616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class or gro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Scoresheet Tab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oose the Reporting Term and Categ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dd scores for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Sa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Once you save, the current Final Grade will upd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PY ASSIGNMENTS, DELETE ASSIGNMENTS, FILL SCORES, AND/OR CLEAR SCORES -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lick on the Assignment title at the top of the colum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Right click or Control Cli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elect desired ac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ublishing Assignments - More Inf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1252440"/>
            <a:ext cx="9661680" cy="548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Assignments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Select the assignment you want to publish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Publish Assignmen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-up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menu, choose when to publish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n Specific Dat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date the assignment should appear 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te On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5. If you selected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ente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he number of days the assignment should appear prior to the date that it is due i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Days Before Du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field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6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Filter A Scoreshee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55680" y="1142640"/>
            <a:ext cx="9370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lick Tools, Select Score Insp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32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he  START PAG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92240" y="1095120"/>
            <a:ext cx="9774000" cy="635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werTeacher Icon - (Top Left) Click this icon anytime to return to the Start Pag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rrent Classes Window - (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Chair - Attendanc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he Dot - Attendance Completion Indicat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tensils - Lunch Coun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ackpack - Student Inform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er - Print Class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nu - (Left Margin) - Links to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444444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rt Page, Daily Bulletin, Staff Directory, Meals, Personalize, Gradebook, and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ool/Term Selectors - (Top Midd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iece of Paper - (Top Right) - Report Queu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estion Mark - (Top Right) - PowerTeacher HEL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Logout - (Top Right) -  Click to exit progra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885080" y="595440"/>
            <a:ext cx="191916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8881920" y="4214880"/>
            <a:ext cx="1114560" cy="13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Open the Score Inspector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9800" y="1145880"/>
            <a:ext cx="966132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one or more of the following filter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Reporting Ter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Categor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Filter By Student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 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Open the Score Inspect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From any assignment field (or Final Grade field) within the Scoresheet, pres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rk Assignmen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Select a class, then click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ab. Or, ope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lick in the assignment column of the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student for whom you want to enter 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ssignment status: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press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MMAND+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Mac) 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right-click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(Windows) and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ave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Times New Roman"/>
              </a:rPr>
              <a:t>·        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n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indow, select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ollected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,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Late, Exempt,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or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Missing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checkbox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dd a Final Grade Com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49120" y="170352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Ope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upda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Manually enter final grade comments in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field and/or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Bank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elect one or more predefine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comments. Use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Nex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rrows to repeat for each student, if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applicabl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Manually Override Final Grad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90520" y="1190520"/>
            <a:ext cx="9640800" cy="603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1. Select a class from the Classes pane, then click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shee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ab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2. Choose a term from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Filter B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Reporting Term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3. Open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Score Inspector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select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nal grade of the student you want 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update. The final grade field appea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highlighte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4. Select the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Manual Overrid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heckbox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nter the new grade in the appropriat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and enter any comments in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ommen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field, if applicable. Use th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Previous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nd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Nex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arrows to repeat fo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each student, if applicab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2700" spc="-1" strike="noStrike">
                <a:solidFill>
                  <a:srgbClr val="444444"/>
                </a:solidFill>
                <a:latin typeface="Arial"/>
              </a:rPr>
              <a:t>Close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o sav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Reports Availabl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08080" y="1066320"/>
            <a:ext cx="9804240" cy="595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The following reports are available on the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gradebook Reports tab: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Attendance Grid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ategory Total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Final Grade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Comment Verification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Individual Student Repor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issing Assignment 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coreshee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Multi-Section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tudent Roster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Gradebook Help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To access the PowerTeacher gradebook Online Help,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click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44444"/>
                </a:solidFill>
                <a:latin typeface="Arial"/>
              </a:rPr>
              <a:t>Help &gt; Contents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444444"/>
                </a:solidFill>
                <a:latin typeface="Arial"/>
              </a:rPr>
              <a:t>on the menu bar.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Logou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ff0000"/>
                </a:solidFill>
                <a:latin typeface="Arial"/>
              </a:rPr>
              <a:t>LOGOUT 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by clicking on the logout button at the top of the scree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s should make it a habit to </a:t>
            </a: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logout after entering or viewing data.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 </a:t>
            </a:r>
            <a:br>
              <a:rPr sz="2700"/>
            </a:br>
            <a:br>
              <a:rPr sz="2700"/>
            </a:b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*****If a teacher does not logout, private student information may be available to anyone with access to the comput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Taking Attendanc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2680" y="1523520"/>
            <a:ext cx="973476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An attendance indicator (chair) icon appears next to each class. The color of the dot indicates whether or not you've taken attendance for that clas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chair icon next to the class for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which you want to take attendance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Choose the appropriate attendance code from the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Current attendance code 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popup menu.  A=Absent or T=Tardy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the cell next to each student who is absent or tardy to insert the code you chose from the pop-up menu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4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126200" y="95400"/>
            <a:ext cx="2714760" cy="14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ubmitting Lunch Cou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( Elementary 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1. Click the utensil icon next to the class for which you want to submit a lunch count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2. Enter the lunch counts in the fields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3. Click </a:t>
            </a:r>
            <a:r>
              <a:rPr b="1" lang="en-US" sz="29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29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7927920" y="228600"/>
            <a:ext cx="191304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Accessing Student Informat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backpack icon next to the class you want to view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lick the student’s nam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a student page to access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elect Screens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 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Have a look at the Select Screens you may choos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8037360" y="182520"/>
            <a:ext cx="2030400" cy="15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Select Screens  *******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umulative Grade Inform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Demograph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Meeting Attendance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Net/Phone Access Summary - Parent and student access inf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Print a Report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Quick Look-Up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che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andard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Phot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Student Log Entry - ***Do NOT use this at this time.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44444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Teacher Comm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3b62af"/>
                </a:solidFill>
                <a:latin typeface="Arial"/>
              </a:rPr>
              <a:t>Printing School Reports or Report Tab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3040" y="1676160"/>
            <a:ext cx="966168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Your school creates the reports available to you in PowerTeacher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1. Click the printer icon next to the class for which you want to print a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2. Choose the report from the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Which report would you like to print 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op-up menu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3. Choose the watermark text (optional)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4. Choose when you want PowerSchool to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prepare your report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5. Click </a:t>
            </a:r>
            <a:r>
              <a:rPr b="1" lang="en-US" sz="3500" spc="-1" strike="noStrike">
                <a:solidFill>
                  <a:srgbClr val="444444"/>
                </a:solidFill>
                <a:latin typeface="Arial"/>
              </a:rPr>
              <a:t>Submit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7823160" y="5943600"/>
            <a:ext cx="1778040" cy="14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helen.gooch</cp:lastModifiedBy>
  <dcterms:modified xsi:type="dcterms:W3CDTF">2008-07-08T14:45:08Z</dcterms:modified>
  <cp:revision>14</cp:revision>
  <dc:subject/>
  <dc:title>PowerPoint Presentation</dc:title>
</cp:coreProperties>
</file>